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45200" cy="934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52800" cy="466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92400" y="0"/>
            <a:ext cx="3052800" cy="466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0640" cy="350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600" rIns="936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9600" y="4438440"/>
            <a:ext cx="5165640" cy="42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79040"/>
            <a:ext cx="3052800" cy="466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92400" y="8879040"/>
            <a:ext cx="3052800" cy="466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68C4-A1F8-4390-A91A-8CBDD10A0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992400" y="8879040"/>
            <a:ext cx="3052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CF58-417C-4288-9890-A47EFFDAC1CB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0640" cy="35035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39600" y="4438440"/>
            <a:ext cx="51656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0640" cy="35035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39600" y="4438440"/>
            <a:ext cx="5165640" cy="42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minutes- small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 minutes- larg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992400" y="8879040"/>
            <a:ext cx="3052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6EA8-FFED-47E4-9B44-25BCE7A042BD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992400" y="8879040"/>
            <a:ext cx="3052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A7BF-83EC-4A14-B64C-B0B82FC7E36D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0640" cy="35035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9600" y="4438440"/>
            <a:ext cx="5165640" cy="42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 them:  How might the Kidwatching might be different from the kinds of things that they have seen in schools?  Think-Pair-Share  Make sure you talk about the specifics from the Owocki 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0640" cy="3503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39600" y="4438440"/>
            <a:ext cx="5165640" cy="42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992400" y="8879040"/>
            <a:ext cx="3052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5D98-8E1F-4AA0-880A-014A8A43A7BB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0640" cy="3503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39600" y="4438440"/>
            <a:ext cx="5165640" cy="42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992400" y="8879040"/>
            <a:ext cx="3052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00B7-42FD-4E94-99F9-D69020ED78AC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0640" cy="350352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39600" y="4438440"/>
            <a:ext cx="5165640" cy="42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in- my 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992400" y="8879040"/>
            <a:ext cx="3052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D6FE-FB59-4EBF-A7F3-6FCEF31E2501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0640" cy="35035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39600" y="4438440"/>
            <a:ext cx="5165640" cy="42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out name ta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15 minutes to write this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992400" y="8879040"/>
            <a:ext cx="3052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1EAE-3BE2-4486-ADB6-CAB23328065B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0640" cy="35035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39600" y="4438440"/>
            <a:ext cx="5165640" cy="42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min- textbook review, pa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in- wi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in- syllabus, expectations, student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0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992400" y="8879040"/>
            <a:ext cx="3052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D26B-7CCD-4DA8-A1F7-556D5F259430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0640" cy="350352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39600" y="4438440"/>
            <a:ext cx="5165640" cy="42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in: Think on own; small groups; large group discu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may be challenging some of their thoughts on literacy this semester…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- between now and next class; write down the ways in which you use litera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hr 20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992400" y="8879040"/>
            <a:ext cx="3052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713B-0B9D-4D38-A3A0-07534A0D81B5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0640" cy="350352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39600" y="4438440"/>
            <a:ext cx="5165640" cy="42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10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over assignment guidelines and show tutoring kit examples… Where to get materials?  Things to avoid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: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992400" y="8879040"/>
            <a:ext cx="3052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A2C6-4415-48D0-8640-BB5463AD43B2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0640" cy="35035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39600" y="4438440"/>
            <a:ext cx="5165640" cy="42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992400" y="8879040"/>
            <a:ext cx="3052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9402-E563-483B-A95B-CA3F69D8147F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0483-634E-415F-AB05-A70E439BB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2D7E-361F-4FD9-9ADD-734E1184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C901-3B20-45AF-B678-FE0100741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AD3E-473E-461A-A74C-0A6AB03C9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284E-08B3-44F6-A888-CBB10FA83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76A5-56D4-4830-A834-4521FB6A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DCC9-F5B0-49E0-AF0D-0A1ED72D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AFDD-C686-4E77-A164-0EF350C3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25ED-0A0E-45B0-A16F-9B64A2A8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0207-DBC0-4E7E-B22A-65BE9042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4D7D-6FC0-43B8-B682-C5D1A976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D605-9A6D-4D49-B3C3-01E53E96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E1610-EBE7-43B3-A58F-4A2B65B1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610EC-6257-45B2-B27F-678DE753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CC80-3D7E-4506-81BB-19C186CF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B722-040E-4718-B0A2-C6FD9AFDC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2101-A79D-45B2-AC7C-D669C225C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1D59-B1E4-4DE9-BFCE-A75E0CF1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2E6E-2FB8-48B7-A06D-39EFB825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99AD-7173-43C2-A614-C0594E65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6A29-8977-446B-A29C-6DB5323E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4ECB-85CA-40C4-9B8A-8EC68104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D1D7-B827-4356-805A-A60AEAEA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B5AA-6BE0-43FD-A704-3074A982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60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60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c60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01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FA6F-1060-487F-8858-D5881F239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60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60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c60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01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EFF6-6597-40FB-A2E9-9F61EE9D039A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Week 1</a:t>
            </a:r>
            <a:br>
              <a:rPr sz="4000"/>
            </a:br>
            <a:endParaRPr b="0" lang="en-US" sz="40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28520" y="2514600"/>
            <a:ext cx="7086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70c0"/>
                </a:solidFill>
                <a:uFillTx/>
                <a:latin typeface="Arial"/>
              </a:rPr>
              <a:t>Topics for Today: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Introduction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Course Introducti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Texts/ Syllabu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What is literacy?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Tutoring Kit Guidelin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"/>
              </a:rPr>
              <a:t>Something to think about…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9999"/>
                </a:solidFill>
                <a:latin typeface="Arial"/>
              </a:rPr>
              <a:t>In small groups of 4-5, discuss you’re the readings for today.  In addition to discussing the key ideas on your I read, I thought, consider the following questions in your discussion.  We will come back as a large group to discuss you thoughts.</a:t>
            </a:r>
            <a:endParaRPr b="0" lang="en-US" sz="25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601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018"/>
                </a:solidFill>
                <a:latin typeface="Arial"/>
              </a:rPr>
              <a:t>What are most salient ideas/ themes?  </a:t>
            </a:r>
            <a:endParaRPr b="0" lang="en-US" sz="2400" spc="-1" strike="noStrike">
              <a:solidFill>
                <a:srgbClr val="cc601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601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01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6018"/>
                </a:solidFill>
                <a:latin typeface="Arial"/>
              </a:rPr>
              <a:t>How do these ideas connect to teaching?To students? </a:t>
            </a:r>
            <a:endParaRPr b="0" lang="en-US" sz="2400" spc="-1" strike="noStrike">
              <a:solidFill>
                <a:srgbClr val="cc601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601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018"/>
                </a:solidFill>
                <a:latin typeface="Arial"/>
              </a:rPr>
              <a:t>How do you see this ideas influencing your instruction?</a:t>
            </a:r>
            <a:endParaRPr b="0" lang="en-US" sz="2400" spc="-1" strike="noStrike">
              <a:solidFill>
                <a:srgbClr val="cc601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601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018"/>
                </a:solidFill>
                <a:latin typeface="Arial"/>
              </a:rPr>
              <a:t>How is this different from what you know about “school”/ “doing school”</a:t>
            </a:r>
            <a:endParaRPr b="0" lang="en-US" sz="2400" spc="-1" strike="noStrike">
              <a:solidFill>
                <a:srgbClr val="cc601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330000"/>
                </a:solidFill>
                <a:latin typeface="Arial"/>
              </a:rPr>
              <a:t>Kidwatching”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Building an insider view of the communit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Understanding how lang. &amp; lit. develop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Organizing a rich environment for learn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Interacting with childre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Observing and documenting children’s knowledg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Analyzing data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stering children’s self-evaluatio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ngaging in self-evaluation of teach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Using evaluation to inform instructio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"/>
              </a:rPr>
              <a:t>Observation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23960" y="18288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urpose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Importance for teachers for supporting children’s literacy development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Kind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0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018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c6018"/>
                </a:solidFill>
                <a:latin typeface="Arial"/>
              </a:rPr>
              <a:t>cold”</a:t>
            </a:r>
            <a:endParaRPr b="0" lang="en-US" sz="2800" spc="-1" strike="noStrike">
              <a:solidFill>
                <a:srgbClr val="cc601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0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018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c6018"/>
                </a:solidFill>
                <a:latin typeface="Arial"/>
              </a:rPr>
              <a:t>participant”</a:t>
            </a:r>
            <a:endParaRPr b="0" lang="en-US" sz="2800" spc="-1" strike="noStrike">
              <a:solidFill>
                <a:srgbClr val="cc60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0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018"/>
                </a:solidFill>
                <a:latin typeface="Arial"/>
              </a:rPr>
              <a:t>Permission/Entree</a:t>
            </a:r>
            <a:endParaRPr b="0" lang="en-US" sz="2800" spc="-1" strike="noStrike">
              <a:solidFill>
                <a:srgbClr val="cc601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0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018"/>
                </a:solidFill>
                <a:latin typeface="Arial"/>
              </a:rPr>
              <a:t>Comfort zone</a:t>
            </a:r>
            <a:endParaRPr b="0" lang="en-US" sz="2800" spc="-1" strike="noStrike">
              <a:solidFill>
                <a:srgbClr val="cc601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330000"/>
                </a:solidFill>
                <a:latin typeface="Arial"/>
              </a:rPr>
              <a:t>Shut up and teach!”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aching as talker (lecturing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ssumptions: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cc60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018"/>
                </a:solidFill>
                <a:latin typeface="Arial"/>
              </a:rPr>
              <a:t>Teacher is knowledgeable one</a:t>
            </a:r>
            <a:endParaRPr b="0" lang="en-US" sz="2400" spc="-1" strike="noStrike">
              <a:solidFill>
                <a:srgbClr val="cc6018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cc60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018"/>
                </a:solidFill>
                <a:latin typeface="Arial"/>
              </a:rPr>
              <a:t>Learning is a process of filling students’ minds</a:t>
            </a:r>
            <a:endParaRPr b="0" lang="en-US" sz="2400" spc="-1" strike="noStrike">
              <a:solidFill>
                <a:srgbClr val="cc6018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cc60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018"/>
                </a:solidFill>
                <a:latin typeface="Arial"/>
              </a:rPr>
              <a:t>Literacy is a thing to be given to someone</a:t>
            </a:r>
            <a:endParaRPr b="0" lang="en-US" sz="2400" spc="-1" strike="noStrike">
              <a:solidFill>
                <a:srgbClr val="cc6018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76920" y="1752480"/>
            <a:ext cx="3962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aching as listener/ observer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ssumptions: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60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018"/>
                </a:solidFill>
                <a:latin typeface="Arial"/>
              </a:rPr>
              <a:t>Teacher must learn from and about students in order to support learning</a:t>
            </a:r>
            <a:endParaRPr b="0" lang="en-US" sz="2000" spc="-1" strike="noStrike">
              <a:solidFill>
                <a:srgbClr val="cc601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60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018"/>
                </a:solidFill>
                <a:latin typeface="Arial"/>
              </a:rPr>
              <a:t>Learning must be based on what children already know</a:t>
            </a:r>
            <a:endParaRPr b="0" lang="en-US" sz="2000" spc="-1" strike="noStrike">
              <a:solidFill>
                <a:srgbClr val="cc601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60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018"/>
                </a:solidFill>
                <a:latin typeface="Arial"/>
              </a:rPr>
              <a:t>Literacy is a social practice (not a commodity or object)</a:t>
            </a:r>
            <a:endParaRPr b="0" lang="en-US" sz="2000" spc="-1" strike="noStrike">
              <a:solidFill>
                <a:srgbClr val="cc601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"/>
              </a:rPr>
              <a:t>For next week…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c60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018"/>
                </a:solidFill>
                <a:latin typeface="Arial"/>
              </a:rPr>
              <a:t>KL:  Ch. 1-12; jigsaw-</a:t>
            </a:r>
            <a:endParaRPr b="0" lang="en-US" sz="2800" spc="-1" strike="noStrike">
              <a:solidFill>
                <a:srgbClr val="cc601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60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018"/>
                </a:solidFill>
                <a:latin typeface="Arial"/>
              </a:rPr>
              <a:t>Read assigned chapters to share with peers </a:t>
            </a:r>
            <a:endParaRPr b="0" lang="en-US" sz="2400" spc="-1" strike="noStrike">
              <a:solidFill>
                <a:srgbClr val="cc601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60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018"/>
                </a:solidFill>
                <a:latin typeface="Arial"/>
              </a:rPr>
              <a:t>Use organizer- to be posted to the wiki within next 24 hours</a:t>
            </a:r>
            <a:endParaRPr b="0" lang="en-US" sz="2400" spc="-1" strike="noStrike">
              <a:solidFill>
                <a:srgbClr val="cc601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0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018"/>
                </a:solidFill>
                <a:latin typeface="Arial"/>
              </a:rPr>
              <a:t>Codeswitching article</a:t>
            </a:r>
            <a:endParaRPr b="0" lang="en-US" sz="2800" spc="-1" strike="noStrike">
              <a:solidFill>
                <a:srgbClr val="cc601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60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018"/>
                </a:solidFill>
                <a:latin typeface="Arial"/>
              </a:rPr>
              <a:t>Complete discussion notes and bring with you to class</a:t>
            </a:r>
            <a:endParaRPr b="0" lang="en-US" sz="2400" spc="-1" strike="noStrike">
              <a:solidFill>
                <a:srgbClr val="cc601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0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018"/>
                </a:solidFill>
                <a:latin typeface="Arial"/>
              </a:rPr>
              <a:t>No class meeting- Monday, Jan. 18</a:t>
            </a:r>
            <a:r>
              <a:rPr b="0" lang="en-US" sz="2800" spc="-1" strike="noStrike" baseline="30000">
                <a:solidFill>
                  <a:srgbClr val="cc601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cc601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c601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"/>
              </a:rPr>
              <a:t>Introduction 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94" name="Content Placeholder 5" descr="IMG00102.jpg"/>
          <p:cNvPicPr/>
          <p:nvPr/>
        </p:nvPicPr>
        <p:blipFill>
          <a:blip r:embed="rId1"/>
          <a:stretch/>
        </p:blipFill>
        <p:spPr>
          <a:xfrm>
            <a:off x="685800" y="2595600"/>
            <a:ext cx="3809880" cy="2886120"/>
          </a:xfrm>
          <a:prstGeom prst="rect">
            <a:avLst/>
          </a:prstGeom>
          <a:ln w="0">
            <a:noFill/>
          </a:ln>
        </p:spPr>
      </p:pic>
      <p:pic>
        <p:nvPicPr>
          <p:cNvPr id="95" name="Content Placeholder 6" descr="IMG00158.jpg"/>
          <p:cNvPicPr/>
          <p:nvPr/>
        </p:nvPicPr>
        <p:blipFill>
          <a:blip r:embed="rId2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"/>
              </a:rPr>
              <a:t>About you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99"/>
                </a:solidFill>
                <a:latin typeface="Arial"/>
              </a:rPr>
              <a:t>Please answer the following questions</a:t>
            </a: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60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018"/>
                </a:solidFill>
                <a:latin typeface="Arial"/>
              </a:rPr>
              <a:t>Name</a:t>
            </a:r>
            <a:endParaRPr b="0" lang="en-US" sz="2600" spc="-1" strike="noStrike">
              <a:solidFill>
                <a:srgbClr val="cc601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60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018"/>
                </a:solidFill>
                <a:latin typeface="Arial"/>
              </a:rPr>
              <a:t>Nickname ( if one)</a:t>
            </a:r>
            <a:endParaRPr b="0" lang="en-US" sz="2600" spc="-1" strike="noStrike">
              <a:solidFill>
                <a:srgbClr val="cc601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60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018"/>
                </a:solidFill>
                <a:latin typeface="Arial"/>
              </a:rPr>
              <a:t>Major</a:t>
            </a:r>
            <a:endParaRPr b="0" lang="en-US" sz="2600" spc="-1" strike="noStrike">
              <a:solidFill>
                <a:srgbClr val="cc601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60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018"/>
                </a:solidFill>
                <a:latin typeface="Arial"/>
              </a:rPr>
              <a:t>What grade level would you like to teach when you have your own classroom?  Why?</a:t>
            </a:r>
            <a:endParaRPr b="0" lang="en-US" sz="2600" spc="-1" strike="noStrike">
              <a:solidFill>
                <a:srgbClr val="cc601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60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018"/>
                </a:solidFill>
                <a:latin typeface="Arial"/>
              </a:rPr>
              <a:t>Anything I should know about you so that I can help you succeed in this class?</a:t>
            </a:r>
            <a:endParaRPr b="0" lang="en-US" sz="2600" spc="-1" strike="noStrike">
              <a:solidFill>
                <a:srgbClr val="cc601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60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018"/>
                </a:solidFill>
                <a:latin typeface="Arial"/>
              </a:rPr>
              <a:t>What are you hoping to learn this semester?</a:t>
            </a:r>
            <a:endParaRPr b="0" lang="en-US" sz="2600" spc="-1" strike="noStrike">
              <a:solidFill>
                <a:srgbClr val="cc601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"/>
              </a:rPr>
              <a:t>This course, the basics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ourse, syllabus, textbooks, packet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Wiki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"/>
              </a:rPr>
              <a:t>What is literacy?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When you think of literacy what comes to mind?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How do you define literacy?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Why does it matter what our personal views on literacy are as educators?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"/>
              </a:rPr>
              <a:t>Tutoring and Assessment Kit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Assignment guidelines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60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018"/>
                </a:solidFill>
                <a:latin typeface="Arial"/>
              </a:rPr>
              <a:t>The purpose of this assignment is to foster organization and preparation for literacy assessment and instruction.</a:t>
            </a:r>
            <a:endParaRPr b="0" lang="en-US" sz="2000" spc="-1" strike="noStrike">
              <a:solidFill>
                <a:srgbClr val="cc601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60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018"/>
                </a:solidFill>
                <a:latin typeface="Arial"/>
              </a:rPr>
              <a:t>You will continue to build toolkit over the next couple of weeks</a:t>
            </a:r>
            <a:endParaRPr b="0" lang="en-US" sz="2000" spc="-1" strike="noStrike">
              <a:solidFill>
                <a:srgbClr val="cc60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Assessment criteria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60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018"/>
                </a:solidFill>
                <a:latin typeface="Arial"/>
              </a:rPr>
              <a:t>Breadth of developmental levels</a:t>
            </a:r>
            <a:endParaRPr b="0" lang="en-US" sz="2000" spc="-1" strike="noStrike">
              <a:solidFill>
                <a:srgbClr val="cc601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60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018"/>
                </a:solidFill>
                <a:latin typeface="Arial"/>
              </a:rPr>
              <a:t>Organization</a:t>
            </a:r>
            <a:endParaRPr b="0" lang="en-US" sz="2000" spc="-1" strike="noStrike">
              <a:solidFill>
                <a:srgbClr val="cc601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60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018"/>
                </a:solidFill>
                <a:latin typeface="Arial"/>
              </a:rPr>
              <a:t>Variety of materials/resources</a:t>
            </a:r>
            <a:endParaRPr b="0" lang="en-US" sz="2000" spc="-1" strike="noStrike">
              <a:solidFill>
                <a:srgbClr val="cc601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60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018"/>
                </a:solidFill>
                <a:latin typeface="Arial"/>
              </a:rPr>
              <a:t>Inclusion of required elements</a:t>
            </a:r>
            <a:endParaRPr b="0" lang="en-US" sz="2000" spc="-1" strike="noStrike">
              <a:solidFill>
                <a:srgbClr val="cc60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Example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Due date: W classes: Feb 3</a:t>
            </a:r>
            <a:r>
              <a:rPr b="0" lang="en-US" sz="2200" spc="-1" strike="noStrike" baseline="30000">
                <a:solidFill>
                  <a:srgbClr val="009999"/>
                </a:solidFill>
                <a:latin typeface="Arial"/>
              </a:rPr>
              <a:t>rd</a:t>
            </a: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; TH classes: Feb 4</a:t>
            </a:r>
            <a:r>
              <a:rPr b="0" lang="en-US" sz="2200" spc="-1" strike="noStrike" baseline="30000">
                <a:solidFill>
                  <a:srgbClr val="009999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496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"/>
              </a:rPr>
              <a:t>For Next Time…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Kidwatching Ch, 1(on wiki); 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KT: 2-16; 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Novinger article (on wiki); 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While reading, complete the I read… I thought paper ( on wiki)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"/>
              </a:rPr>
              <a:t>Today’s agenda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Literacy memorie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Discussion of Reading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"/>
              </a:rPr>
              <a:t>Thinking about literacy…</a:t>
            </a:r>
            <a:r>
              <a:rPr b="0" lang="en-US" sz="4400" spc="-1" strike="noStrike">
                <a:solidFill>
                  <a:srgbClr val="33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onsider your past literacy experiences; 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What is the most memorable experience you have had with literacy?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mi</dc:creator>
  <dc:description/>
  <dc:language>en-US</dc:language>
  <cp:lastModifiedBy>Tami</cp:lastModifiedBy>
  <cp:lastPrinted>2008-08-27T13:47:28Z</cp:lastPrinted>
  <dcterms:modified xsi:type="dcterms:W3CDTF">2010-01-13T04:18:32Z</dcterms:modified>
  <cp:revision>78</cp:revision>
  <dc:subject/>
  <dc:title>Tuesday, August 29 C&amp;I 208 Handsfield</dc:title>
</cp:coreProperties>
</file>